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E418-1239-4651-ADAD-94037CAE0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5FE2-286A-4423-B4BF-B9D24B4C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1DE5-1289-4032-9861-B09B9E4B9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EEFA-3111-46B1-915F-7A7BC02C4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8FFD-34DF-4CE6-8BD8-01746250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009A-537B-47E6-A730-11DB0A1B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F0B9-8409-459F-A5DC-CBDC5582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54F4-CF81-4032-88A4-1F3B17B0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2FC7-263B-40E0-9257-27E8CD25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1BF4-846E-4EFB-94CA-5AF50F7C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B545-10B0-4553-86EA-8A8CACA7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7264-11D8-46BD-8E41-A9C51162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013A-452B-4E08-AC06-47F848D9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A384-F370-4C85-B35C-16713589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CC5F-D89B-421A-9472-1F23BE23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DB4A-199C-4886-BB23-0FA69E94C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81B4-D6F6-42E9-8852-8315D6DC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6D26-86B7-47CF-AA9F-F2E55733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1A0D-F55E-48DF-8E8C-68496DE9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5287-6B8C-4FC2-8355-165FA97F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C116-DD02-403D-B26A-710B0965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C462-72A0-4410-A025-9C5645AB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4583-61CD-4B9F-87C4-53426CE2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5046-E632-4007-89D9-4C9754D1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6B3D-C301-40A9-A5EB-5A07A94CF86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C7AC-5C9D-49E0-B61F-38F03F5F983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:</a:t>
            </a:r>
            <a:r>
              <a:rPr b="1" lang="ru-RU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5000"/>
            </a:br>
            <a:r>
              <a:rPr b="1" lang="ru-RU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Гражданское общество </a:t>
            </a:r>
            <a:br>
              <a:rPr sz="5000"/>
            </a:br>
            <a:r>
              <a:rPr b="1" lang="ru-RU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правовое государство»</a:t>
            </a:r>
            <a:endParaRPr b="0" lang="en-US" sz="5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Oval 6"/>
          <p:cNvSpPr/>
          <p:nvPr/>
        </p:nvSpPr>
        <p:spPr>
          <a:xfrm>
            <a:off x="2343240" y="0"/>
            <a:ext cx="4019400" cy="3809880"/>
          </a:xfrm>
          <a:prstGeom prst="ellipse">
            <a:avLst/>
          </a:prstGeom>
          <a:solidFill>
            <a:srgbClr val="33cccc">
              <a:alpha val="62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cf70"/>
                </a:solidFill>
                <a:latin typeface="Times New Roman"/>
              </a:rPr>
              <a:t>ГРАЖДАНСКОЕ ОБЩЕСТВО </a:t>
            </a: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се социальные структур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 отношения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оторые не регулируютс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ластью и государств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3505320" y="2565360"/>
            <a:ext cx="3886200" cy="3683160"/>
          </a:xfrm>
          <a:prstGeom prst="ellipse">
            <a:avLst/>
          </a:prstGeom>
          <a:solidFill>
            <a:srgbClr val="99ccff">
              <a:alpha val="33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cf70"/>
                </a:solidFill>
                <a:latin typeface="Times New Roman"/>
                <a:ea typeface="Times New Roman"/>
              </a:rPr>
              <a:t>ГРАЖДАНСКОЕ ОБЩЕСТВО –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ство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определенном этапе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о - экономического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рического развития,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основа демократического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вого государства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Oval 27"/>
          <p:cNvSpPr/>
          <p:nvPr/>
        </p:nvSpPr>
        <p:spPr>
          <a:xfrm>
            <a:off x="152280" y="2565360"/>
            <a:ext cx="4381560" cy="4292640"/>
          </a:xfrm>
          <a:prstGeom prst="ellipse">
            <a:avLst/>
          </a:prstGeom>
          <a:solidFill>
            <a:srgbClr val="33ccff">
              <a:alpha val="47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f70"/>
                </a:solidFill>
                <a:latin typeface="Times New Roman"/>
              </a:rPr>
              <a:t>ПРАВОВОЕ ГОСУДАРСТВО –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осударство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граниченное в своих действиях право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дчиненное воле суверенного народа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ыражаемой в конституци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званное обеспечи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сновополагающие прав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 свободу лич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Box 1"/>
          <p:cNvSpPr/>
          <p:nvPr/>
        </p:nvSpPr>
        <p:spPr>
          <a:xfrm>
            <a:off x="6362640" y="37620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знак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5962680" y="746280"/>
            <a:ext cx="32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огообразие форм собственности (частная и др.)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мократия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вая защищённость граждан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кая культур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Box 12"/>
          <p:cNvSpPr/>
          <p:nvPr/>
        </p:nvSpPr>
        <p:spPr>
          <a:xfrm>
            <a:off x="457200" y="1116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знак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Box 13"/>
          <p:cNvSpPr/>
          <p:nvPr/>
        </p:nvSpPr>
        <p:spPr>
          <a:xfrm>
            <a:off x="0" y="476280"/>
            <a:ext cx="327672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рховенство закона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льность прав и свобод личности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вая форма взаимоотношений индивида, общества и государства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 разделения власт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4533840" y="2884320"/>
            <a:ext cx="914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ccc"/>
                </a:solidFill>
                <a:latin typeface="Tahoma"/>
              </a:rPr>
              <a:t>1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2819520" y="2925720"/>
            <a:ext cx="914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ccc"/>
                </a:solidFill>
                <a:latin typeface="Tahoma"/>
              </a:rPr>
              <a:t>2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3619440" y="4168800"/>
            <a:ext cx="914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ccc"/>
                </a:solidFill>
                <a:latin typeface="Tahoma"/>
              </a:rPr>
              <a:t>3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5:08:22Z</dcterms:created>
  <dc:creator>user</dc:creator>
  <dc:description/>
  <dc:language>en-US</dc:language>
  <cp:lastModifiedBy>Ильясова Наталья Николаевна</cp:lastModifiedBy>
  <dcterms:modified xsi:type="dcterms:W3CDTF">2012-12-19T12:19:2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